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9F5B4-820B-456A-9F6F-43AA5B24B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E15F6-4592-473C-AD18-6B03A6398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68319-6F36-43F3-845D-3DEC25663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EF303-2B78-436A-8E8A-3E75B5B6D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31C1D-D876-4CCD-8593-2D7E8FC4F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7846E-4B1C-4E3E-9E06-229C38DE5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AFEB2-A0CD-48AE-80B1-3C250D77E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C5ACF-52C5-440E-805E-92298C6A3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9A1F4-A366-4146-A8B6-3E0DFB042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B2DF8-301A-4CC0-8742-62AC842FF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8F359-D556-431E-A35F-DEAA783DD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45685-A841-4560-B597-B8100BFC5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1679-EAD9-4D11-847B-7B5286D034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2285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xEl>
                                              <p:pRg st="0" end="0"/>
                                            </p:txEl>
                                          </p:spTgt>
                                        </p:tgtEl>
                                        <p:attrNameLst>
                                          <p:attrName>style.visibility</p:attrName>
                                        </p:attrNameLst>
                                      </p:cBhvr>
                                      <p:to>
                                        <p:strVal val="visible"/>
                                      </p:to>
                                    </p:set>
                                    <p:animEffect filter="fade" transition="in">
                                      <p:cBhvr additive="repl">
                                        <p:cTn id="12" dur="2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4724280" y="1219320"/>
            <a:ext cx="426744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ord</cp:lastModifiedBy>
  <dcterms:modified xsi:type="dcterms:W3CDTF">2012-06-19T11:12:15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